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4EB9-B65B-4C0F-8B26-6FAAA0DE1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86B5-715B-4AC6-82AF-8C609C420C0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000-906F-42FF-BFCB-CE73CEE0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3D8-D1DF-47E2-9174-C2E6C534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B35-9B31-494B-9152-A955021C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E9B-5AE8-42DD-804E-DD7218B4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14C8-B2AB-45C0-A548-82FC87A0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1C27-E773-4B81-82DA-510EC1AE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7FB9-26EE-4B35-86F8-315DE906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DC30-1163-425B-9522-D9687AD6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000C-76F2-438F-88E3-ACBA6C0E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AA06-39E3-4856-9FEA-173AEA09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42D6-8B18-4E13-8497-18D7D94D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D1D-4D6C-44D0-9849-AAF011BE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94B1-CB46-4F88-A34C-CC67921B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3E60-9CF2-48E3-B005-71E1128D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4363-12A5-405E-8941-167187A1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6E6D-CC46-45C2-A3A7-3D2B925E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6D81-C2A6-4189-978E-6BD32BA2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C8F-495E-4BAE-96D2-DF76ACB2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A60-3FC9-4D18-A2A3-1D6C6458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78C-AE99-4EBE-9D1D-D36F007D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876-CF46-48A3-AAF4-AD8CEAD9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65A-DCAE-488E-A5CE-AE659BB7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C4D-4A22-4724-A481-963ACC01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C12-11C5-4DEE-858A-C4018311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9AC3-A7B0-4ECF-8601-DF385CC4D10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D653-5BC5-4466-A57F-8458BF0B1E0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eading.uoregon.edu/big_ideas/pa/pa_skills_iso.php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reading.uoregon.edu/big_ideas/pa/pa_skills_seg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ading.uroegon.edu/" TargetMode="External"/><Relationship Id="rId2" Type="http://schemas.openxmlformats.org/officeDocument/2006/relationships/hyperlink" Target="http://www.nifl.gov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Reading Skills: 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  Teaching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      Phonemic 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         Awarene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666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achers increase effectiveness when the manipulation of letters is added to phonemic awareness tasks. Phonemic awareness is an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uditory skill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University of  Oregon Center for Teaching and Learning.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onemic awareness needs to be taught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plicitly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 The instructional program must show children what they are expected to do. Teachers mus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de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kills they want children to perform before the children are asked to demonstrate the ski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University of Oregon Center for Teaching and Learning.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66680" y="6858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a lot of skills in phonemic awareness, but research has found tha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nding and segmentation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e the 2 critical skills that must be taught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struction must focus on blending and segmenting words at the phoneme, or sound level. This is an 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dito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University of Oregon Center for Teaching and Learning.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earch has found that you get better results when teaching phonemic awareness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mall groups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children rather than an entire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University of Oregon Center for Teaching and Learning.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und Isol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how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children how to do all the steps in the task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asking children to do the task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: (Put down 2 pictures that begin with different sounds and say the names of the pictures.) "My turn to say the first sound in man, /mmm/. Man begins with /mmm/. Everyone, say the first sound in man, /mmm.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Non-exampl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"Who can tell me the first sounds in these pictures?"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6668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Use consistent and brief word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Exampl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: "The first sound in man is /mmm/. Everyone say the first sound in man, /mmm/."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Non-exampl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: "Man starts with the same sound as the first sounds in mountain, mop, and Miranda. Does anyone know other words that begin with the same sound as man?"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66680" y="6858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rrect errors by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ling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the answer and having children repeat the correct answ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: "The first sound in man is /mmm/. Say the first sound in man with me, /mmm/. /Mmmm/.“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Non-example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: Asking the question again or asking more questions. "Look at the picture again. What is the first sound?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ook Fors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6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ings to look for in this clip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What the teacher does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es materials effortless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vides many opportunities for both group and individual student respons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onitors student behavior closely and confirms student understanding by repeating the correct respon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What the student does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duces and practices the new skill multiple tim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swers with highly accurate responses in group and individual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cipates actively during instruc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ideo Demonstratio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reading.uoregon.edu/big_ideas/pa/pa_skills_iso.php#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ext instructional objectives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rst-sound isolation with new sou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dentify final sou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gment individual sounds in wor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is Phonemic Awarenes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onemic awareness is an understanding that speech is composed of individual soun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end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children are first learning to blend, use examples with continuous sounds, because the sounds can be stretched and hel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: "Listen, my lion puppet likes to talk in a broken way. When he says /mmm/ - /ooo/ - /mmm/ he means mom.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-example: "Listen, my lion puppet likes to talk in a broken way. When he says /b/ - /e/ - /d/ he means bed.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666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children are first learning the task, use short words in teaching and practice examples. Use pictures when possib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: Put down 3 pictures of CVC words and say: "My lion puppet wants one of these pictures. Listen to hear which picture he wants, /sss/ - /uuu/ - /nnn/. Which picture?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-example: ".../p/ - /e/ - /n/ - /c/ - /i/ - /l/. Which picture?"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This is a more advanced model that should be used later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children are first learning the task, use materials that reduce memory load and to represent soun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: Use pictures to help children remember the words and to focus their attention. Use a 3-square strip or blocks to represent sounds in a wor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-example: Provide only verbal activiti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066680" y="3805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 children become successful during initial learning, remove scaffolds by using progressively more difficult examples. As children become successful with more difficult examples, use fewer scaffolds, such as pictur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: Move from syllable or onset-rime blending to blending with all sounds in a word (phoneme blending). Remove scaffolds, such as pictur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"Listen, /s/ - /t/ - /o/ - /p/. Which picture?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"Listen, /s/ - /t/ - /o/ - /p/. What word?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-example: Provide instruction and practice at only the easiest levels with all the scaffol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honeme Seg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ycle instructional and practice examples used for blending. Blending and segmenting are sides of the same coin. The only difference is whether children hear or produce a segmented wor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te: A segmenting response is more difficult for children to reproduce than a blending respons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: "Listen, my lion puppet likes to say the sounds in words. The sounds in mom are /mmm/ - /ooo/ - /mmm/. Say the sounds in mom with us. 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currently teach letter-sound correspondences for the sounds children will be segmenting in wor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: Letter sound /s/ and words sun and sit. Put down letter cards for familiar letter-sounds. Then, have children place pictures by the letter that begins with the same sound as the pictu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-example: Use letter-sounds that have not been taught when teaching first sound in pictures for phoneme isolation activiti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ke the connections between sounds in words and sounds of lett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: After children can segment the first sound, have them use letter tiles to represent the soun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-example: Letters in mastered phonologic activities are not used. Explicit connections between alphabetic and phonologic activities are not mad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phonologic skills to teach more advanced reading skills, such as blending letter-sounds to read wor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: (Give children a 3-square strip and the letter tiles for s, u, n.) Have children do familiar tasks and blending to teach stretched blending with lett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ook Fors…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What the teacher does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eviews how to segment words into phonem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es finger to track the individual sounds in word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vides reminders to students to segment word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What the student does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firms responses by sounding out word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ays sounds corresponding to letter til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sponds in unison with teach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ideo Demonstr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reading.uoregon.edu/big_ideas/pa/pa_skills_seg.php#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Targets for Phonemic Awareness (Adams,1990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preciation of sound in spoken language (recitation of nursery rhymes). RFS.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lity to compare and contrast sounds in words by grouping words with similar or dissimilar sounds (beginning, middle, and end of words). RFS.2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lity to blend and split syllables. RFS.2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honemic segmentation or the ability to isolate individual sounds in syllables.  RFS.2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lity to manipulate phonemes by omitting and deleting phonemes to make new words. RFS.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ext instructional objectives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inue sequential segmentation with new sou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pelling single-syllable regular words correctly and independ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ams, M.J. (1990). 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Beginning to read: Thinking and learning about print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Cambridge, MA: MIT Pres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ams, M.J., Foorman, B.R., Lundberg, I, &amp; Beeler, T. (1998). 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Phonemic Awareness in Young Children: A classroom curriculum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Baltimore, MD : Paul H. Brooks Publishing Co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Good III, R. H.  Dynamic Indicators of Basic Early Literacy Skills (DIBELS) with CBM.  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Early Childhood Research Institute on Measuring Growth and Development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Eugene, OR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Good III, R. H., Simmons, D. C., &amp; Smith, S. B. (1998). Effective academic intervention in the United States: Evaluating and enhancing the acquistion of early reading skills. 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 School Psychology Review.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Vol 27, No. 1, pp 45-56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ferences cont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rossen, B. &amp; Carnine, D. (1991).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trategies for maximizing reading success in the regular classroom. In Stoner, G., Shinn, M. R., &amp; Walker, H. M. (Eds)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Interventions for achievement and behavior problems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. Silver Spring, MD: NAS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essley, M. (1998).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Reading instruction that works: The case for balanced teaching.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New York, NY: The Guilford Pres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nider, V. E. (1995). A primer on phonemic awareness: What is it, why it’s important, and how to teach it.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  School Psychology Review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, Vol. 24, No. 3, 443-455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DIBELS – 3D information 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ow to teach Phonemic Awarene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 Features of effective interventions (Good III et.al., 1998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vide instruction at the phoneme leve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affold tasks and exampl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del skills prior to practice and provide opportunities for students to produce isolated sounds orall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vide systematic and strategic instruction for identifying sounds in words, blending and segmenting, and culminate with integration of phonological awareness and letter-sound correspondence instruc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concrete materials to represent sounds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deling activ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aching vs. practi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importance of scope and sequenc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arger units before smaller units (words before syllabl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tinuous before stop sounds (cont.: f, l, m, n, stop: b, c, d, g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ewer sounds before more sounds (VC or CV before CV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lending and segmenting before manipulation (e.g. removing sounds to make new word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al before written langua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honemic Teaching Metho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honemic Awareness in Young Children: A Classroom Curriculum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(Adams, Foorman, Lundberg, &amp; Beeler, 1998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use of language ga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lay regularly (15-20 mi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 in order of sequen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e both segmenting (analysis) and blending (synthesis) activit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68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ding  Behavi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ding left to r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ing a return sweep rather than a slow retur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nitoring whether story makes sen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arching for cues from contex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reading when uncle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lf-corr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ortant Resourc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reading.uroegon.edu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g Ideas in Beginning Re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/>
              </a:rPr>
              <a:t>http://www.nifl.gov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tional Institute for Litera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tional Reading Panel Upd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ritical Features of PA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onemic Awareness is a critical component of reading instruction but not an entire reading program. It absolutely needs to be taught, but should only be 10-15 minutes per day of your reading instru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University of Oregon Center for Teaching and Learning.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5:35:40Z</dcterms:created>
  <dc:creator>Brandy</dc:creator>
  <dc:description/>
  <dc:language>en-US</dc:language>
  <cp:lastModifiedBy> </cp:lastModifiedBy>
  <dcterms:modified xsi:type="dcterms:W3CDTF">2012-06-14T17:59:46Z</dcterms:modified>
  <cp:revision>26</cp:revision>
  <dc:subject/>
  <dc:title>Phonemic Awareness and Reading</dc:title>
</cp:coreProperties>
</file>